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B2E-756F-465D-B278-07306FBA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414-D928-41E8-BC41-7565104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B71-B985-4898-94FB-A27A85AA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0FF-80F7-4DB6-83FD-F0DDD192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62B-FF7D-42C5-9A5A-9EC636A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F61-703E-494D-8E04-27576B9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427-A5AF-4051-B423-A9496FDD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A7F-4808-4D52-BD2A-2544CADB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E83-6BE3-4FCD-928A-3C64372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E4F-7D89-4079-B8E5-39B2D2F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D46-758E-4FEE-AD14-9FC0F75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B43-D3BC-4534-9816-9F16DA6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C4B0-1AC4-42FB-969F-9FD64B8EF79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50 Nádherný nebeský 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dherný nebeský Si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e si len krásny s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ja raz so svo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 Pá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veky býv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čo deň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acej ja tú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moc tam nebude žiad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rť ani lúč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potom Boží ľud po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čo deň vžd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acej ja tú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blízkosti Božieho tró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m i ja miesto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zástupe spasených piesň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m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hu chválu vzd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eň čo deň vžd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acej ja tú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07:44Z</dcterms:modified>
  <cp:revision>25</cp:revision>
  <dc:subject/>
  <dc:title>Je veľký náš Pán, on slávy je Kráľ Nech do všetkých strán  spev vrúcnych znie chvál.</dc:title>
</cp:coreProperties>
</file>